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98147-C65E-46C3-A8D8-5C9373C66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34B9-9C1E-43A4-9BDB-5F4EEE44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393AC-84FD-46D6-B28D-C110BD14D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405CA-98AE-482A-9ED2-3E1C62AB9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4688-0C6A-4518-AA5F-CDBF2B828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01B9-106C-447C-8396-9FE2229A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3155-6496-4FDF-B734-01C10C04C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FA5DC-DAB0-4345-B94B-9EA4CB5C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4048-987B-4134-B34D-8305FE078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C0EF-6DDD-4CFC-8696-832EC656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C2C6-24A0-424D-B3EF-4E6E50E5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F269-60B1-4679-B07B-19C123B31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22F3-9190-4321-BF0D-C5E63D1AF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1" name=""/>
          <p:cNvSpPr/>
          <p:nvPr/>
        </p:nvSpPr>
        <p:spPr>
          <a:xfrm>
            <a:off x="2590920" y="1295280"/>
            <a:ext cx="3886200" cy="1600200"/>
          </a:xfrm>
          <a:prstGeom prst="bevel">
            <a:avLst>
              <a:gd name="adj" fmla="val 12500"/>
            </a:avLst>
          </a:prstGeom>
          <a:solidFill>
            <a:srgbClr val="ffff00"/>
          </a:solidFill>
          <a:ln w="34920">
            <a:solidFill>
              <a:srgbClr val="ff0000"/>
            </a:solidFill>
            <a:prstDash val="lg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الدرس الخامس</a:t>
            </a:r>
            <a:endParaRPr b="0" lang="en-US" sz="2400" spc="-1" strike="noStrike">
              <a:solidFill>
                <a:srgbClr val="000000"/>
              </a:solidFill>
              <a:latin typeface="Times New Roman"/>
            </a:endParaRPr>
          </a:p>
        </p:txBody>
      </p:sp>
      <p:sp>
        <p:nvSpPr>
          <p:cNvPr id="42" name=""/>
          <p:cNvSpPr/>
          <p:nvPr/>
        </p:nvSpPr>
        <p:spPr>
          <a:xfrm>
            <a:off x="2133720" y="3581280"/>
            <a:ext cx="4724280" cy="1219320"/>
          </a:xfrm>
          <a:prstGeom prst="rect">
            <a:avLst/>
          </a:prstGeom>
          <a:solidFill>
            <a:srgbClr val="ffff00"/>
          </a:solidFill>
          <a:ln w="34920">
            <a:solidFill>
              <a:srgbClr val="ff0000"/>
            </a:solidFill>
            <a:prstDash val="dashDot"/>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سورة إبراهيم/الآيات </a:t>
            </a:r>
            <a:r>
              <a:rPr b="0" lang="en-US" sz="2400" spc="-1" strike="noStrike">
                <a:solidFill>
                  <a:srgbClr val="000000"/>
                </a:solidFill>
                <a:latin typeface="Times New Roman"/>
              </a:rPr>
              <a:t>47</a:t>
            </a:r>
            <a:r>
              <a:rPr b="0" lang="en-US" sz="2400" spc="-1" strike="noStrike">
                <a:solidFill>
                  <a:srgbClr val="000000"/>
                </a:solidFill>
                <a:latin typeface="Times New Roman"/>
              </a:rPr>
              <a:t>-</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143000"/>
            <a:ext cx="7620120" cy="46483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لَا تَحْسَبَنَّ اللَّهَ مُخْلِفَ وَعْدِهِ رُسُلَهُ إِنَّ اللَّهَ عَزِيزٌ ذُو انْتِقَامٍ (</a:t>
            </a:r>
            <a:r>
              <a:rPr b="0" lang="ar-SA" sz="3200" spc="-1" strike="noStrike">
                <a:solidFill>
                  <a:srgbClr val="000000"/>
                </a:solidFill>
                <a:latin typeface="Times New Roman"/>
                <a:ea typeface="Traditional Arabic"/>
              </a:rPr>
              <a:t>47</a:t>
            </a:r>
            <a:r>
              <a:rPr b="0" lang="ar-SA" sz="3200" spc="-1" strike="noStrike">
                <a:solidFill>
                  <a:srgbClr val="000000"/>
                </a:solidFill>
                <a:latin typeface="Times New Roman"/>
                <a:ea typeface="Traditional Arabic"/>
              </a:rPr>
              <a:t>) يَوْمَ تُبَدَّلُ الْأَرْضُ غَيْرَ الْأَرْضِ وَالسَّمَوَاتُ وَبَرَزُوا لِلَّهِ الْوَاحِدِ الْقَهَّارِ (</a:t>
            </a:r>
            <a:r>
              <a:rPr b="0" lang="ar-SA" sz="3200" spc="-1" strike="noStrike">
                <a:solidFill>
                  <a:srgbClr val="000000"/>
                </a:solidFill>
                <a:latin typeface="Times New Roman"/>
                <a:ea typeface="Traditional Arabic"/>
              </a:rPr>
              <a:t>48</a:t>
            </a:r>
            <a:r>
              <a:rPr b="0" lang="ar-SA" sz="3200" spc="-1" strike="noStrike">
                <a:solidFill>
                  <a:srgbClr val="000000"/>
                </a:solidFill>
                <a:latin typeface="Times New Roman"/>
                <a:ea typeface="Traditional Arabic"/>
              </a:rPr>
              <a:t>) وَتَرَى الْمُجْرِمِينَ يَوْمَئِذٍ مُقَرَّنِينَ فِي الْأَصْفَادِ (</a:t>
            </a:r>
            <a:r>
              <a:rPr b="0" lang="ar-SA" sz="3200" spc="-1" strike="noStrike">
                <a:solidFill>
                  <a:srgbClr val="000000"/>
                </a:solidFill>
                <a:latin typeface="Times New Roman"/>
                <a:ea typeface="Traditional Arabic"/>
              </a:rPr>
              <a:t>49</a:t>
            </a:r>
            <a:r>
              <a:rPr b="0" lang="ar-SA" sz="3200" spc="-1" strike="noStrike">
                <a:solidFill>
                  <a:srgbClr val="000000"/>
                </a:solidFill>
                <a:latin typeface="Times New Roman"/>
                <a:ea typeface="Traditional Arabic"/>
              </a:rPr>
              <a:t>) سَرَابِيلُهُمْ مِنْ قَطِرَانٍ وَتَغْشَى وُجُوهَهُمُ النَّارُ (</a:t>
            </a:r>
            <a:r>
              <a:rPr b="0" lang="ar-SA" sz="3200" spc="-1" strike="noStrike">
                <a:solidFill>
                  <a:srgbClr val="000000"/>
                </a:solidFill>
                <a:latin typeface="Times New Roman"/>
                <a:ea typeface="Traditional Arabic"/>
              </a:rPr>
              <a:t>50</a:t>
            </a:r>
            <a:r>
              <a:rPr b="0" lang="ar-SA" sz="3200" spc="-1" strike="noStrike">
                <a:solidFill>
                  <a:srgbClr val="000000"/>
                </a:solidFill>
                <a:latin typeface="Times New Roman"/>
                <a:ea typeface="Traditional Arabic"/>
              </a:rPr>
              <a:t>) لِيَجْزِيَ اللَّهُ كُلَّ نَفْسٍ مَا كَسَبَتْ إِنَّ اللَّهَ سَرِيعُ الْحِسَابِ (</a:t>
            </a:r>
            <a:r>
              <a:rPr b="0" lang="ar-SA" sz="3200" spc="-1" strike="noStrike">
                <a:solidFill>
                  <a:srgbClr val="000000"/>
                </a:solidFill>
                <a:latin typeface="Times New Roman"/>
                <a:ea typeface="Traditional Arabic"/>
              </a:rPr>
              <a:t>51</a:t>
            </a:r>
            <a:r>
              <a:rPr b="0" lang="ar-SA" sz="3200" spc="-1" strike="noStrike">
                <a:solidFill>
                  <a:srgbClr val="000000"/>
                </a:solidFill>
                <a:latin typeface="Times New Roman"/>
                <a:ea typeface="Traditional Arabic"/>
              </a:rPr>
              <a:t>) هَذَا بَلَاغٌ لِلنَّاسِ وَلِيُنْذَرُوا بِهِ وَلِيَعْلَمُوا أَنَّمَا هُوَ إِلَهٌ وَاحِدٌ وَلِيَذَّكَّرَ أُولُواْ الْأَلْبَابِ (</a:t>
            </a:r>
            <a:r>
              <a:rPr b="0" lang="ar-SA" sz="3200" spc="-1" strike="noStrike">
                <a:solidFill>
                  <a:srgbClr val="000000"/>
                </a:solidFill>
                <a:latin typeface="Times New Roman"/>
                <a:ea typeface="Traditional Arabic"/>
              </a:rPr>
              <a:t>52</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5" name=""/>
          <p:cNvSpPr/>
          <p:nvPr/>
        </p:nvSpPr>
        <p:spPr>
          <a:xfrm>
            <a:off x="5867280" y="0"/>
            <a:ext cx="3048120" cy="914400"/>
          </a:xfrm>
          <a:prstGeom prst="flowChartDisplay">
            <a:avLst/>
          </a:prstGeom>
          <a:solidFill>
            <a:srgbClr val="8080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عاني الكلمات:</a:t>
            </a:r>
            <a:endParaRPr b="0" lang="en-US" sz="2400" spc="-1" strike="noStrike">
              <a:solidFill>
                <a:srgbClr val="000000"/>
              </a:solidFill>
              <a:latin typeface="Times New Roman"/>
            </a:endParaRPr>
          </a:p>
        </p:txBody>
      </p:sp>
      <p:graphicFrame>
        <p:nvGraphicFramePr>
          <p:cNvPr id="46" name=""/>
          <p:cNvGraphicFramePr/>
          <p:nvPr/>
        </p:nvGraphicFramePr>
        <p:xfrm>
          <a:off x="228600" y="990720"/>
          <a:ext cx="8763120" cy="568152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نصر أوليائه وهلاك أعدائ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تبدل بأرض غيره،وقيل:إنها تلك الأرض وإنما يزاد فيها وينقص منها وتذهب آكامها وجبالها وأوديتها وشج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 :تبديلها تكوير شمسها وتناثر نجومها, وقيل 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شدودين إلى بعضهم ببعض بالقيود والأغل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مصهم, واحدها سربا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حسبن الله مخلف وعده رس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تبدل 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سمو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رنين في الأصف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رابيل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686800" cy="6477120"/>
        </p:xfrm>
        <a:graphic>
          <a:graphicData uri="http://schemas.openxmlformats.org/drawingml/2006/table">
            <a:tbl>
              <a:tblPr/>
              <a:tblGrid>
                <a:gridCol w="4343400"/>
                <a:gridCol w="4343400"/>
              </a:tblGrid>
              <a:tr h="6477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طران : عصارة تستخرج من نوع من الشجر , تطبخ ثم تطلى بها الإبل لعلاجها من الجرب, وإنما جعلت سرابيلهم منه لأنه يبالغ في اشتغال النار في الجل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عل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رآن تبليغ 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وف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تعظ أصحاب العقو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قطر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غشى وجوههم النار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ذا بلاغ للن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نذر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ذكروا أولو الألباب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867280" y="-360"/>
            <a:ext cx="32767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د الله سبحانه رسله بنصرهم ونصر أتباعهم , وإهلاك أعدائهم وخذلانهم في الدنيا وعقابهم في الآخرة ,وأن هذا لابد من وقوعه </a:t>
            </a:r>
            <a:r>
              <a:rPr b="0" lang="ar-JO" sz="3200" spc="-1" strike="noStrike">
                <a:solidFill>
                  <a:srgbClr val="000000"/>
                </a:solidFill>
                <a:latin typeface="Times New Roman"/>
              </a:rPr>
              <a:t>؛لأنه وعد به ووعده حق.</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يوم القيامة تبدل الأرض والسموات ,فالأرض تسوى ويلقى ما على ظهرها من جبال ومعالم فتصير قاعاً صفصفاً لا ترى فيها عوجاً ولا أمتاً ,وتبدل السموات بانفطارها وتناثر كواكبها وتكوير شمسها وخسوف قمر ثم يطويها سبحانه بيمينه.</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بعد خروج الناس من قبورهم يقفون بين يدي الواحد القهار ,وفي هذا من هول الخطب ما لا يخفى ؛ لأنهم إذا وقفوا أمام ملك عظيم قهار لا يشاركه سواه في سلطانه كانوا في غاية الشدة والصعوب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610480" cy="624852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لما وصف سبحانه نفسه بكونه قهاراً بين عجز المجرمين وذلتهم يوم القيامة  في صور منها:</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نهم يقادون إلى العذاب في أذل صورة وأبشعها  حيث إنه يقرن بعضهم إلى بعض في القيود ويضم كل واحد إلى مشاركه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كفره وعمله.</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قمصهم التي يلبسونها من قطران وذلك حتى يجتمع عليهم أربعة ألوان من العذاب :لذع القطران وحرقته ,وسرعة اشتعال النار في الجلود ,واللون الأسود الموحش ,ونتن الرائحة وقذارتها .</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وجوههم تعلوها النار وتحيط بها ,وتسعر أجسامهم المسربلة بالقطران وإنما ذكرت الوجوه مع أن ذلك يكون لسائر الجسم لكونها أعز الأعضاء الظاهرة وأشرفها.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إن الله سبحانه يجازي كل نفس بما كسبت من خير أو شر جزاءً وفاقاً،فيجزي المحسن بإحسانه والمسيء بإساءت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الله سبحانه سريع الحساب فيحاسب جميع عباده ولا يشغله حسابُ أحد عن أحد،كما يشغله رزق عباده وتدبير أمور بعضهم عن بعض.</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مدح الله سبحانه كتابه بأنه بلاغ للناس،فبإزاله قامت عليهم الحجة بما فيه من المواعظ والعبر فقد أنذرهم فيه من عقابه وحذرهم فيه من نقمته وأورد فيه من الأدلة والبراهين ما يدل عبى أنه سبحانه الإله الواحد الذي يستحق العبادة وحده دون سوا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أصحاب العقول الكاملة هم الذين ينتفعون بهذا القرآن ويتعظون بما فيه،فهم الذين يعرفون ما ينفعهم فيفعلونه،وما يضرهم فيتركونه،وبذلك صاروا أولي الألباب والبصائ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600" y="762120"/>
            <a:ext cx="8686800" cy="58672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لا تحسبن الله مخلف وعده رسله، يوم تبدل الأرض، مقرنين في الأصفاد، سرابيلهم، قطرا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بأي شيء وعد الله سبحانه رسله وأتباعهم؟</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في الآيات الكريمة وصف لحال الأرض والسماوات في يوم القيامة،وضح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لما وصف الله سبحانه نفسه بأنه قهار بين عجز المجرمين و ذلتهم في يوم القيامة،اذكر ثلاث صور من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بماذا مدح الله كتابه العزيز؟ومن الذين ينتفعون ب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6</a:t>
            </a:r>
            <a:r>
              <a:rPr b="0" lang="en-US" sz="3200" spc="-1" strike="noStrike">
                <a:solidFill>
                  <a:srgbClr val="000000"/>
                </a:solidFill>
                <a:latin typeface="Times New Roman"/>
              </a:rPr>
              <a:t>:في الآيات الكريمة بَيَّن سبحانه بأنه سريع الحساب فيحاسب جميع العباد ولا يشغله حساب أحد عن أحد بين ذلك.</a:t>
            </a:r>
            <a:endParaRPr b="0" lang="en-US" sz="3200" spc="-1" strike="noStrike">
              <a:solidFill>
                <a:srgbClr val="000000"/>
              </a:solidFill>
              <a:latin typeface="Times New Roman"/>
            </a:endParaRPr>
          </a:p>
        </p:txBody>
      </p:sp>
      <p:sp>
        <p:nvSpPr>
          <p:cNvPr id="53" name=""/>
          <p:cNvSpPr/>
          <p:nvPr/>
        </p:nvSpPr>
        <p:spPr>
          <a:xfrm>
            <a:off x="5029200" y="0"/>
            <a:ext cx="4114800" cy="685800"/>
          </a:xfrm>
          <a:custGeom>
            <a:avLst/>
            <a:gdLst>
              <a:gd name="textAreaLeft" fmla="*/ 1028520 w 4114800"/>
              <a:gd name="textAreaRight" fmla="*/ 3086280 w 4114800"/>
              <a:gd name="textAreaTop" fmla="*/ 171360 h 685800"/>
              <a:gd name="textAreaBottom" fmla="*/ 665640 h 685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808000">
              <a:alpha val="50000"/>
            </a:srgbClr>
          </a:solidFill>
          <a:ln w="25560">
            <a:solidFill>
              <a:srgbClr val="ff0000"/>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مناقشة</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7:58Z</dcterms:created>
  <dc:creator>cultural-office</dc:creator>
  <dc:description/>
  <dc:language>en-US</dc:language>
  <cp:lastModifiedBy>cultural-office</cp:lastModifiedBy>
  <dcterms:modified xsi:type="dcterms:W3CDTF">2008-01-19T12:07:58Z</dcterms:modified>
  <cp:revision>7</cp:revision>
  <dc:subject/>
  <dc:title>الدرس الخامس</dc:title>
</cp:coreProperties>
</file>